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D98-3350-40D4-955A-9CE9C66C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B71-C018-4811-89C2-5E19D924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18C-7027-4D79-8FAB-68B5B0A9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DBC-98A2-409E-B9C7-B7D5395F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4871-6091-44AA-A682-4C2485EC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551C-A727-4D68-8691-EC3E160B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A8AC-BA06-4BD1-959C-F004EDF1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4EFD-175B-4D4D-B75F-32A37BEE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408E-CD92-432D-A557-2D4DD12E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5E41-DB19-4CC6-B14C-E57F8354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F724-3376-4B69-AC3D-701C95E8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2A8-A3F6-4AB5-9396-1529CA98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563D-10D1-4309-93B8-2C0507B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3D31-8937-4AA4-B345-4719D6B8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AB39-66B2-45F2-B770-03F27B37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F118-3731-49C2-975F-58BD74D5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9930-ACAF-4173-AD39-5BE0B170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FE97-A1A3-4E71-A738-BBE9567D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D3C4-50D8-4415-9796-4B51DCE2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264C-14F8-443D-9F4E-2DDB2BB3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1D74-5C36-4081-ACF2-16221CD6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D9A4-03A0-4233-8E5C-76A5D725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6C3-134B-4218-B85A-B9F96E61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9178-6186-45D0-BE77-E712C776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DF02C-006A-4C30-83F4-D6E9957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18A2-48D4-4E1C-965C-BEE9499F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EF1DF-6F29-4F1D-8C82-4DC953C8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F06A-5913-497A-B78F-16A02C41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912E-60E5-4B63-BD55-BA14E3CF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A32E-8120-4DA2-8FDD-F3EB94F6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EA00-0ECE-44CC-A2B6-62866B7F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361CD-91CB-4815-9B8D-B2C8E08B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217F-B372-4EC6-AEA7-6381604A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5E2-83D9-469E-9BD9-E797888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88030-F97F-4462-A28C-4EBC8146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79420-508A-4687-8FE5-1FD77438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71C4-AEAB-4641-B5DA-203DE6E9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45C2-98A1-4D87-90DF-1F7B5A79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CF8D-48C5-4913-8804-E3F6000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5881-2E68-42B2-B0C8-7322E27C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1D97-D371-408F-B69F-4CD8E769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AFE3-AB94-462D-A338-1C5A7E88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2AEC-47E2-43AA-B30B-BC8A9005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667BA-2CC0-4C26-A389-4A4FAC31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B79-6591-4067-9FF6-13009F40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3BF99-0BE9-4F3D-A46B-D91E8E25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9FA4D-2D28-452B-8318-11A18B0F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5E04-BB0D-481D-A3E7-1AB4253F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2009-482E-465E-B753-E41DF91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DE626-8819-40E3-9190-48621638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78BD4-F35A-4120-8295-AC84581E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BD33-AF60-4DEE-8CE6-C4D8F4C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BBD2E-0008-49B5-A696-E241A28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0A97-A1D3-4B17-A4A6-1F820B79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A695-5E27-4B63-9D60-4DBB97BA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096-F7D3-4277-955F-1905FE44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ACDD-2913-4CDD-B7CA-D32246C5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061-E572-49F7-94A7-8B92964F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43D-DF17-405E-AAC0-871FC7A5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CDB-5BD8-42D6-903A-2D043627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526B-CAD4-4B53-B3B3-43872CA7EF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6EC4-6F02-463B-BE87-32DD098AB6F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19CB-F490-447F-B4D1-224F4E76A64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4B76-EF16-48D3-A041-9B1B5DA2C4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c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fd7c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7bc2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7bc2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B490-39D0-4B1C-8AAA-68651BAAD96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Женски репродуктивни систем.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242112"/>
                </a:solidFill>
                <a:latin typeface="Cambria"/>
                <a:ea typeface="Times New Roman"/>
              </a:rPr>
              <a:t>Анатомија и ембриологија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доц</a:t>
            </a:r>
            <a:r>
              <a:rPr b="1" lang="en-US" sz="2400" spc="-1" strike="noStrike">
                <a:solidFill>
                  <a:srgbClr val="242112"/>
                </a:solidFill>
                <a:latin typeface="Perpetua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 др </a:t>
            </a:r>
            <a:r>
              <a:rPr b="1" lang="sr-CS" sz="2400" spc="-1" strike="noStrike">
                <a:solidFill>
                  <a:srgbClr val="242112"/>
                </a:solidFill>
                <a:latin typeface="Cambria"/>
                <a:ea typeface="Times New Roman"/>
              </a:rPr>
              <a:t>Петар Арсенијевић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Гинекологија и акушерство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новне академске студиј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87520" y="150840"/>
            <a:ext cx="6324480" cy="12463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ФАКУЛТЕТ МЕДИЦИНСКИХ НАУКА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УНИВЕРЗИТЕТА У КРАГУЈЕВЦУ</a:t>
            </a:r>
            <a:br>
              <a:rPr sz="2400"/>
            </a:br>
            <a:r>
              <a:rPr b="0" lang="sr-CS" sz="2400" spc="-1" strike="noStrike">
                <a:solidFill>
                  <a:srgbClr val="444d26"/>
                </a:solidFill>
                <a:latin typeface="Cambria"/>
                <a:ea typeface="Times New Roman"/>
              </a:rPr>
              <a:t>ГАК КЦ КРАГУЈЕВАЦ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0" name="Content Placeholder 3" descr="Coat_of_Arms_of_Kragujevac_University.png"/>
          <p:cNvPicPr/>
          <p:nvPr/>
        </p:nvPicPr>
        <p:blipFill>
          <a:blip r:embed="rId1"/>
          <a:stretch/>
        </p:blipFill>
        <p:spPr>
          <a:xfrm>
            <a:off x="7742160" y="622440"/>
            <a:ext cx="93204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Васкуларизација гинеколошких орган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aa.uterinae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двајајући се од бедрене артерије иде преко мишића карличне пречаге, потом улази у састав широких материчних веза, спушта се наниже и ка унутра, укршта се са уретером и потом улази у састав Макендротових лигамената после чега се грана на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усходну(аа. arcuatae, ramus tubarius, ramus ovaricu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 и нисходну грану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(aa. cervico vaginal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аа. pudendae interna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– парне артерије дају гране за спољашње гениталне органе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а. vaginalis, a. urethralis, a. clitorid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Васкуларизација гинеколошких орган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56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8046" t="0" r="38534" b="37800"/>
          <a:stretch/>
        </p:blipFill>
        <p:spPr>
          <a:xfrm>
            <a:off x="1042920" y="1197000"/>
            <a:ext cx="72741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нервација и лимфна дренаж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nn. limphatici iliaci externi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спољашње гране и унутрашње гране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fosa оbturatoriа!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nn. limphatici  iliaci interni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имфна дренажа из делова спољашњих и унутрашњих гениталних органа (цервикс, материца, јајници); настављју се на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nn. limphatici  communis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ји завршавају у аортним лимфним чворови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ервација је од два главна блока: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lexus pelvicu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за горње делове карлице и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lexus pudendus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( S4-S5; nn. coccigei, n. pudendus, nn. perinei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Инервација и лимфна дренаж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rcRect l="9043" t="0" r="38940" b="39026"/>
          <a:stretch/>
        </p:blipFill>
        <p:spPr>
          <a:xfrm>
            <a:off x="1116000" y="1268280"/>
            <a:ext cx="720108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Cambria"/>
              </a:rPr>
              <a:t>Женски репродуктивни органи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нутрашњи органи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Cambria"/>
              </a:rPr>
              <a:t>Ovarium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Cambria"/>
              </a:rPr>
              <a:t>Tuba uterin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Cambria"/>
              </a:rPr>
              <a:t>Uteru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Cambria"/>
              </a:rPr>
              <a:t>Vagin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пољашње гениталије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Mons pub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Labia minora et major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Vestibulu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Clitor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Picture 6" descr="sema samo"/>
          <p:cNvPicPr/>
          <p:nvPr/>
        </p:nvPicPr>
        <p:blipFill>
          <a:blip r:embed="rId1"/>
          <a:stretch/>
        </p:blipFill>
        <p:spPr>
          <a:xfrm>
            <a:off x="2340000" y="4365720"/>
            <a:ext cx="45356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Јајник(Ovarium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арни орган јајастог облика, промера око 3 цм, тежине око 15 грам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алази се латерално од материце, а уз јајовод са којим чини парни орган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dnex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варијум је причвршћен латерално са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ig.infundibulopelvica (seu lig.ovarii proprium),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едијално за утерус са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ig.suspensorium ovari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са горње стране се налазе фимбрије јајовода а са доње се наслања на широке материчне вез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Јајник(Ovarium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пецифични положај оваријума одређује и његова близина великим крвним судовима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fosa ovarica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. Одозго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a.iliaca extern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. Латерално и  позад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a.iliaca interna, ure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. Медијално и на дол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a.uterina, ramus ovaric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7" descr="sl"/>
          <p:cNvPicPr/>
          <p:nvPr/>
        </p:nvPicPr>
        <p:blipFill>
          <a:blip r:embed="rId1"/>
          <a:srcRect l="49528" t="55618" r="5887" b="19619"/>
          <a:stretch/>
        </p:blipFill>
        <p:spPr>
          <a:xfrm>
            <a:off x="826920" y="1989000"/>
            <a:ext cx="38894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Јајник(Ovarium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Хистолошка грађа јајника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unica albuginea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спољашњи омотач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Cortex</a:t>
            </a:r>
            <a:r>
              <a:rPr b="1" i="1" lang="en-US" sz="20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паренхим и стром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Medula</a:t>
            </a:r>
            <a:r>
              <a:rPr b="1" i="1" lang="en-US" sz="20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рвни судови, остаци Волфових канал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сновни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епродуктивни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рган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ме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врши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гамета односно фоликул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Игра кључну улогу у ендокриној контроли репродуктивног периода жен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8" descr="ijum sema"/>
          <p:cNvPicPr/>
          <p:nvPr/>
        </p:nvPicPr>
        <p:blipFill>
          <a:blip r:embed="rId1"/>
          <a:stretch/>
        </p:blipFill>
        <p:spPr>
          <a:xfrm>
            <a:off x="611280" y="1773360"/>
            <a:ext cx="40384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Јајник(Ovarium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аскуларизација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.ovarica, ramus ovaricus arteriae uterina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- plexus ovaricus, vena ovarica, vena cava inferi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ервација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plexus coeliac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- plexus uterovaginal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имфна дренажа: парааортни лимфни судов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Јајовод( 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Tuba uterin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Парни цевасти орган дужине 10-12 цм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Делови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Pars uterina </a:t>
            </a:r>
            <a:r>
              <a:rPr b="0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(1,5-2cm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Isthmus tubae uterinae </a:t>
            </a:r>
            <a:r>
              <a:rPr b="0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(2-3cm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Ampulla tubae uterinae </a:t>
            </a:r>
            <a:r>
              <a:rPr b="0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(7-8cm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Infundibulum tubae uterinae </a:t>
            </a:r>
            <a:r>
              <a:rPr b="0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(2cm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0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- fimbriae tubae (12-15mm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0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0" i="1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(fimbria ovarica 2-3cm</a:t>
            </a:r>
            <a:r>
              <a:rPr b="0" lang="hr-HR" sz="20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Ostium uterinum, ostium abdomina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5" name="Picture 6" descr="sl"/>
          <p:cNvPicPr/>
          <p:nvPr/>
        </p:nvPicPr>
        <p:blipFill>
          <a:blip r:embed="rId1"/>
          <a:srcRect l="50398" t="55439" r="4141" b="27110"/>
          <a:stretch/>
        </p:blipFill>
        <p:spPr>
          <a:xfrm>
            <a:off x="468360" y="1628640"/>
            <a:ext cx="4319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ости карл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арлицу чине пар карличних костију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оs coxa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и крстачна кост(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os sacrum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арличну кост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оs coxa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чине 3 кости: бедрена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оs ilium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, седална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os isch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и стидна кост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(os pub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преда пут позади прво иду пубичне кости које су спојене пубичном симфизом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symphysis pubic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коју чине два лигамента-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ig. pubicum superior , lig. arcuatum pub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убичне кости се настављају са доње стране на седалне кости,  а са горње на бедрене кос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Јајовод( 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Tuba uterin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Прекривен је дупликатуром висцералног перитонеума-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mesosalpinx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Хистолошка грађа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Tunica seros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Tunica muscular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Tunica mucosa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једнослојни цилинрични епител, пехарасте ћелије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Својом перисталтиком контролише путању сперматозоида/ зигот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8" name="Picture 7" descr="sl"/>
          <p:cNvPicPr/>
          <p:nvPr/>
        </p:nvPicPr>
        <p:blipFill>
          <a:blip r:embed="rId1"/>
          <a:srcRect l="49528" t="55618" r="5887" b="19619"/>
          <a:stretch/>
        </p:blipFill>
        <p:spPr>
          <a:xfrm>
            <a:off x="250920" y="1700280"/>
            <a:ext cx="4583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Јајовод(  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Tuba uterin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аскуларизација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 ramus ovaricus arteriae uterinae et ovarica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- plexus ovaricus, vena ovarica, vena cava inferi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нервација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plexus coeliacus(ovaricu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- plexus uterovaginal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Лимфна дренажа: парааортни лимфни судови, као код јајни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атерица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(Uterus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mbria"/>
                <a:ea typeface="Cambria"/>
              </a:rPr>
              <a:t>Corpus ute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mbria"/>
                <a:ea typeface="Cambria"/>
              </a:rPr>
              <a:t>facies vesical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mbria"/>
                <a:ea typeface="Cambria"/>
              </a:rPr>
              <a:t>facies intestinal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mbria"/>
                <a:ea typeface="Cambria"/>
              </a:rPr>
              <a:t>fundus ute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mbria"/>
                <a:ea typeface="Cambria"/>
              </a:rPr>
              <a:t>margo dex. et si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ambria"/>
                <a:ea typeface="Cambria"/>
              </a:rPr>
              <a:t>cornu uteri dex. et si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mbria"/>
                <a:ea typeface="Cambria"/>
              </a:rPr>
              <a:t>Isthmus ute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Cambria"/>
                <a:ea typeface="Cambria"/>
              </a:rPr>
              <a:t>Cervix ute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улипар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6x4x2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ц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ултипар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7x7x2,5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ц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Тежин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40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7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3" name="Picture 6" descr="sl"/>
          <p:cNvPicPr/>
          <p:nvPr/>
        </p:nvPicPr>
        <p:blipFill>
          <a:blip r:embed="rId1"/>
          <a:srcRect l="6948" t="14895" r="15669" b="53806"/>
          <a:stretch/>
        </p:blipFill>
        <p:spPr>
          <a:xfrm>
            <a:off x="611280" y="1413000"/>
            <a:ext cx="40528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атерица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(Uterus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Endometrium</a:t>
            </a: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(tunica mucosa uteri)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L</a:t>
            </a: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amina epithelialis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  <a:ea typeface="Cambria"/>
              </a:rPr>
              <a:t>једноредан цилиндрични епител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  <a:ea typeface="Cambria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  <a:ea typeface="Cambria"/>
              </a:rPr>
              <a:t>трепљасте и секретне ћел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L</a:t>
            </a: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amina propria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-</a:t>
            </a: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  <a:ea typeface="Cambria"/>
              </a:rPr>
              <a:t>садрж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  <a:ea typeface="Cambria"/>
              </a:rPr>
              <a:t>секрет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ор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  <a:ea typeface="Cambria"/>
              </a:rPr>
              <a:t>не ћелије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Myometrium (tunica musculari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stratum submucosu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stratum vascula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stratum subserosu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Perimetrium (tunica serosa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6" name="Picture 4" descr="IMG018 Adj"/>
          <p:cNvPicPr/>
          <p:nvPr/>
        </p:nvPicPr>
        <p:blipFill>
          <a:blip r:embed="rId1"/>
          <a:stretch/>
        </p:blipFill>
        <p:spPr>
          <a:xfrm>
            <a:off x="611280" y="1700280"/>
            <a:ext cx="40528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Грлић материце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(Cervix uteri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Анатомски део материце, али се функционално понаша као засебан орган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Састоји се од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mbria"/>
              </a:rPr>
              <a:t>Ектоцервикса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portio vaginalis uteri, 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је обложен плочасто слојевитим епителом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Цервикалног канала-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canalis cervicis 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који садржи сквамоколумнарну границ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mbria"/>
              </a:rPr>
              <a:t>Ендоцервикса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 који је прекривен једнослојним цилиндричним епителом</a:t>
            </a:r>
            <a:r>
              <a:rPr b="0" i="1" lang="sr-RS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Хистолошки , грлић материце се битно разликује од материце; грађен је предоминантно од колагених влакана, док саджи само мали број мишићних ћелиј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Glandulae cervic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атерица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(Uterus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Васкуларизаци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a. uterina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која даје бројне гране-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аа.arcuata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Вене и лимфни нодуси прате велике крвне судов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Cambria"/>
              </a:rPr>
              <a:t>Посебно значајни су лимфни нодуси из обтураторних јам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1" name="Picture 6" descr="sl"/>
          <p:cNvPicPr/>
          <p:nvPr/>
        </p:nvPicPr>
        <p:blipFill>
          <a:blip r:embed="rId1"/>
          <a:srcRect l="8824" t="5704" r="13724" b="60803"/>
          <a:stretch/>
        </p:blipFill>
        <p:spPr>
          <a:xfrm>
            <a:off x="684360" y="1484280"/>
            <a:ext cx="41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Усмина(Vagina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933800" y="1557360"/>
            <a:ext cx="37497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Спљоштена цев, дужине 8-10 цм, oкружена мишићима, која се пружа се пут горе и назад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Paries anterior- fundus vesicae urinariae, urethr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Paries posterior- rectu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Margo lateralis- paracolpiu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Ostium seu introitus vagina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Hymen, carunculae hymen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Content Placeholder 6" descr="sl"/>
          <p:cNvPicPr/>
          <p:nvPr/>
        </p:nvPicPr>
        <p:blipFill>
          <a:blip r:embed="rId1"/>
          <a:srcRect l="20834" t="21868" r="6248" b="33009"/>
          <a:stretch/>
        </p:blipFill>
        <p:spPr>
          <a:xfrm>
            <a:off x="684360" y="1628640"/>
            <a:ext cx="4103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Усмина(</a:t>
            </a: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Vagina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Хистолошка грађ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unica mucosa- 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плочасто слојевити епител без орожавањ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unica muscularis- </a:t>
            </a:r>
            <a:r>
              <a:rPr b="0" i="1" lang="sr-RS" sz="2200" spc="-1" strike="noStrike">
                <a:solidFill>
                  <a:srgbClr val="000000"/>
                </a:solidFill>
                <a:latin typeface="Cambria"/>
              </a:rPr>
              <a:t>глатки мишићни слој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unica adventitia seu paracolpium- 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везивна и еластична влакна која садрже нервне завршетке и крвне судове, без жлезд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Вагина је добро васкуларизована од стране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. vaginalis(a.iliaca interna) et rr. vaginales arteriae uterina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Инервација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plexus uterovaginali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Organa genitalia feminina externa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762200" y="1452600"/>
            <a:ext cx="60768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Organa genitalia feminina externa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Mons pubis</a:t>
            </a:r>
            <a:r>
              <a:rPr b="0" i="1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– накупина масног ткива прекривена кожом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Labia majora</a:t>
            </a:r>
            <a:r>
              <a:rPr b="0" i="1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 велике усне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парни кожни набори, аналогни скротуму код мушкарца. Садрже мерокрине и апокрине знојне, као и лојне жлезде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Labia minora</a:t>
            </a:r>
            <a:r>
              <a:rPr b="0" i="1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– мале усне, набори пигментисане коже без длака и масног ткива, аналогни кожи пениса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Vestibulum vaginae</a:t>
            </a:r>
            <a:r>
              <a:rPr b="0" i="1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– ,,предворје” отварају се уретра, вагина и изводни канали вестибуларних жлезда(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gll. vestibulares majores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 ет 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minore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које продукују мукозни секрет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Cambria"/>
                <a:ea typeface="Cambria"/>
              </a:rPr>
              <a:t>Clitoris</a:t>
            </a:r>
            <a:r>
              <a:rPr b="0" i="1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–  дражица ,аналогна пенису код мушкарца. Садржи два кавернозна тела обавијена фиброзним везивом,  која се у предњем делу спајају  у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glans</a:t>
            </a:r>
            <a:r>
              <a:rPr b="1" i="1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clitoridis</a:t>
            </a:r>
            <a:r>
              <a:rPr b="0" i="1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  <a:ea typeface="Cambria"/>
              </a:rPr>
              <a:t>који садржи доста сензитивних  нервних влакан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ости карл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Бедрене кости чине тело и крила (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llae et corpus osis ili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које са унутрашње стране мале карлице формирају удубљење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fosa iliac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појене су са крстачном кости преко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rticulatio sacroiliaca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едалне кости чине доњи део бедрене кости и спојене су са крстачном кости преко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ig. sacrospinale et lig. sacrotuberal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чинећи на тај начин два замишљена отвор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рстачмна кост се са доње стране наставља на тртичну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os coccigeum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са којом је спојена преко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rticulatio sacrococcigea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омонторијум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мбрионални развој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чиње крајем треће, а завршава се крајем осме недеље гестације- критични перио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Женски репродуктивни органи почињу свој развој у 5 недељи гестације када долази до формирања набора целомског епитела- plicae genita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олни набори су у почетку индиферентни, а потом у зависности од пола заметка под контролом хормона се развијају Милерови (XX) или Волфови канали(X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д жена, у почетку се формирају гонаде, а тек по завршетку њиховог формирања се од Милерових канала диференцирају женски полни орган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мбрионални развој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980640"/>
            <a:ext cx="77724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Женске гонаде се  развијају од сва три клицина листа- у целомски епител(ектодерм) прво урањају примарне герминативне ћелије(ендодерм) које окружују мезенхималне ћелије(мезодерм) формирајући герминативне  траке које су претеча гонад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д полних трака почињу да се формирају прва острва ћелија у чијем центру су примарне оогоније окружене ћелијама гранулозе и мезенхималним ћелијама- фоликулогенеза започиње у 14. недељ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осмој недељи гестације Милерови канали се сегментирају на три дела: од проксималног дела настају јајоводи; медијални делови се спајају формирајући утерус и цервикални канал; дистални делови формирају горњу трећину ваги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мбрионални развој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337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Ембрионални развој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пољашњи генитални органи започињу свој развој у четвртој недељи гестације; ћелије мезенхима мигрирају и праве клоакалну мембрану која је прекривена ћелијама ектодерма- клоакални набор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 шестој недељи на врху инвагинације се формира генитални туберкулум; од клоакине мембране урогенитална мембрана а од набора генитални набор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пољашњи генитални органи настају тек у трећем месецу гестације; од гениталног туберкулум издуживањем настаје  клиторис; од гениталних набора настају мале и велике усне а од урогениталног синуса вестибулум и доња трећина ваги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Аномалије у развоју матер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310" name="Content Placeholder 4" descr="Classification-of-uterine-malformations-4.png.jpg"/>
          <p:cNvPicPr/>
          <p:nvPr/>
        </p:nvPicPr>
        <p:blipFill>
          <a:blip r:embed="rId1"/>
          <a:stretch/>
        </p:blipFill>
        <p:spPr>
          <a:xfrm>
            <a:off x="1403280" y="1628640"/>
            <a:ext cx="6624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312" name="Picture 6" descr="uterus-shirt_MED"/>
          <p:cNvPicPr/>
          <p:nvPr/>
        </p:nvPicPr>
        <p:blipFill>
          <a:blip r:embed="rId1"/>
          <a:stretch/>
        </p:blipFill>
        <p:spPr>
          <a:xfrm>
            <a:off x="2484360" y="1700280"/>
            <a:ext cx="446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Кости карл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7640" t="0" r="38940" b="37746"/>
          <a:stretch/>
        </p:blipFill>
        <p:spPr>
          <a:xfrm>
            <a:off x="1403280" y="1079640"/>
            <a:ext cx="6624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ишићи карл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56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ишићи бочних зидова мале карлице су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m. obturatorius internu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m. piriform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Мишићи карлице су груписани у групу мишића који чине мишиће пода мале карлиц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iaphragma pelv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гори део мишића пода мале карлице ,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m. levator ani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68240" indent="-452520" algn="just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. iliococcigeu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68240" indent="-452520" algn="just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. pubococcigeu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68240" indent="-452520" algn="just">
              <a:lnSpc>
                <a:spcPct val="100000"/>
              </a:lnSpc>
              <a:spcBef>
                <a:spcPts val="374"/>
              </a:spcBef>
              <a:buClr>
                <a:srgbClr val="f3a44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. puborectali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ва два из групе су битни за статику органа мале карлице, док трећи сноп чини урогенитални сфинктер вагин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ишићи карл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56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iaphragma urogenitale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други слој који чине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m. sphincter uretrae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m.  transversus perinei profundus.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Битни су за статику органа мале карлице а служе и као урогенитални сфинктер вагин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iaphargma superfitialis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скуп мишића и лигамената који чине најплићи слој карличне пречаге.  Чине ј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1. m. ischiocavernos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2. m. bulbospongios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3. m. sphincter anii extern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4. centrum tendineum perine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5. lig. anococcigeu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ишићи карл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7640" t="0" r="37537" b="37746"/>
          <a:stretch/>
        </p:blipFill>
        <p:spPr>
          <a:xfrm>
            <a:off x="1258920" y="907920"/>
            <a:ext cx="6913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Мишићи карлице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56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rcRect l="7640" t="0" r="37991" b="38194"/>
          <a:stretch/>
        </p:blipFill>
        <p:spPr>
          <a:xfrm>
            <a:off x="1258920" y="907920"/>
            <a:ext cx="691344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Васкуларизација гинеколошких органа</a:t>
            </a:r>
            <a:endParaRPr b="0" lang="en-US" sz="28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56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aa.ovaricae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двајају се из аорте, испод бубрежних артерија. Парне артерије, потoм иду уз уретере и спуштају се преко предњег дела рачве бедрене артерије. Пут настављају ка унутра, улазећи у састав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ig.infudibulopelvica(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пет уретер!)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 прилазе јајнику са горње стране где се деле на два крака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- ramus ovaricus et tubarius ,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који анастомозирају са истоименим крацима материчне артерије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аа. illiacae interna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парна унутрашња бедрена артерија.  По одвајању од рачве даје многе гране од којих су најзачајније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а. uterina, a. pudenda interna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a. vaginali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just">
              <a:lnSpc>
                <a:spcPct val="100000"/>
              </a:lnSpc>
              <a:spcBef>
                <a:spcPts val="575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7:32:03Z</dcterms:created>
  <dc:creator>Petar Arsenijevic</dc:creator>
  <dc:description/>
  <dc:language>en-US</dc:language>
  <cp:lastModifiedBy>nidza</cp:lastModifiedBy>
  <dcterms:modified xsi:type="dcterms:W3CDTF">2023-02-04T16:07:51Z</dcterms:modified>
  <cp:revision>287</cp:revision>
  <dc:subject/>
  <dc:title>ФАКУЛТЕТ МЕДИЦИНСКИХ НАУКА УНИВЕРЗИТЕТ У КРАГУЈЕВЦУ</dc:title>
</cp:coreProperties>
</file>