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238-A309-480B-9750-3F2A61CB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D30-8597-42A4-AD1B-8A843662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DF8-1778-4EE7-BC62-FEA525D8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0B7-C3F2-467C-BC4C-DE9C8F7D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F28A-515A-4955-851F-A19B423D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19A8-666B-4765-8796-50BE2B21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585-9337-47D7-87AA-051ED4A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ED3-625D-482C-95D4-DFE7DBF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FD48-D237-4288-B4CD-74FE55D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3BE7-C81A-4F33-BB9E-0E9E3B6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935-4183-47CB-8301-7E86E1A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FE1-3D1C-425F-814D-AC0B316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4440-1E25-4628-8275-9943FB8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E25-FE68-4BAD-8080-C07F372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D87-98A1-48E1-9333-6E15C88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00E-F0CF-4867-82AC-17A39564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56BA-C2D4-41A1-BCC0-33EC87EE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E8AD-80E7-4DD5-8FD2-CB3358FF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FF44-10E9-4B79-B07C-AE6B0619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C249-CEF4-4414-96E2-DADD527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641C-5C8F-48EB-9981-B37E1D69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FB56-249A-47F6-9F3D-C768880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9A8-80FA-435F-811D-F223834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6F6E-4352-4DC4-A93B-28BA3CB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1621-CD08-45A6-BE1E-FBCC78A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4B33-59CE-409D-9A86-75EC98B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CE9D-16D1-4B93-B442-7FF81B1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A0D6-7FA0-4FB6-8E90-DB0E4E10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015B-E917-42AF-BE7E-C0303186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47F6-85C7-464C-A787-7755E39E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D088-82A9-4E98-9E4E-EFD5A970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A8F3-C586-49BB-B03C-16DA4DB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5DA2-5D84-41FA-BC3B-9369941F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305-7138-45C3-9364-065E4180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49C6-8172-4937-B9B4-5EFF3D02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B02B-C456-4B60-9C91-F4CEAADB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B9F6-B664-4564-9E85-184FD74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7AD1-FA5E-4689-970B-CCDE6F7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DCEF-1BC7-421F-AE51-1FC8757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2A57-67A1-4E1B-91F0-D8936210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9F85-DF4D-4361-B98D-54900F0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600F-3157-4CA4-BEEE-10EFFAC2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C0DC-0B74-454B-9EE4-452D594F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B34A-5624-4572-B9BA-B370F45C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A26-2032-476B-8981-3F37E5D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7E22-6EAC-4841-AEE1-61528CC6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1CCC-8DA0-4C5E-9889-6137405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C5A8A-5505-49E5-8A49-4FD4880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EFDD-9FBF-43D8-9B4A-8F06621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6FAC-19A1-4C92-9172-1CCFAD7B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4517-19C5-46DF-A6A2-2B84D4E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F65C-6043-4CA4-AAB7-268FD59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2BBD-79E3-4999-9241-BD2F29A0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949E-9A24-4B1F-A619-AB201F1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825C-10A4-4095-B306-0E52E7D5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689-1FD8-4AC7-806B-85A29B96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61569-6A41-42A3-A423-A41F4515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E25-7EC0-4009-8064-7F23A30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4D8-0C61-4DF7-A97E-7125341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583-646D-465C-9FDB-4E332F3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C57-D25A-457B-A46D-07145F08A5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6D1B-FF17-4E59-908D-5521728515F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6DD2-8BC5-4525-A30A-C6B75F5E6D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7F8-C425-41CE-8136-717BC6CE47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D7E-C4D6-4087-97EE-2502BDF8ED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Поремећаји статике гениталних органа жене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</a:t>
            </a:r>
            <a:r>
              <a:rPr b="1" lang="en-US" sz="2400" spc="-1" strike="noStrike">
                <a:solidFill>
                  <a:srgbClr val="242112"/>
                </a:solidFill>
                <a:latin typeface="Perpetua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пад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3" name="Picture 5" descr="fig8"/>
          <p:cNvPicPr/>
          <p:nvPr/>
        </p:nvPicPr>
        <p:blipFill>
          <a:blip r:embed="rId1"/>
          <a:stretch/>
        </p:blipFill>
        <p:spPr>
          <a:xfrm>
            <a:off x="539640" y="1268280"/>
            <a:ext cx="2792520" cy="3511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PROLAPSUS3"/>
          <p:cNvPicPr/>
          <p:nvPr/>
        </p:nvPicPr>
        <p:blipFill>
          <a:blip r:embed="rId2"/>
          <a:stretch/>
        </p:blipFill>
        <p:spPr>
          <a:xfrm>
            <a:off x="5867280" y="105264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prolapsus-rectum"/>
          <p:cNvPicPr/>
          <p:nvPr/>
        </p:nvPicPr>
        <p:blipFill>
          <a:blip r:embed="rId3"/>
          <a:stretch/>
        </p:blipFill>
        <p:spPr>
          <a:xfrm>
            <a:off x="3564000" y="2637000"/>
            <a:ext cx="1957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ремећаји статике женских гениталних орган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нутрашњи генитални органи су смештени у средини мале карлице; фундус материце је у нивоу терминалне линије док се грлић налази у нивоу интерспиналне лин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татика гениталних органа је дефинисана мишићима пода мале карлице, као и материчним везама и припојима мишића у малој карлиц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елвична дијафрагма пружа потпору органима мале карлице и абдомена; својом релаксацијом омогућава екстреторне функције и порођај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атеричне вез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Lig. rotundum(lig teres uteri)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рогови материце до гoрњих делова ингвиналног канала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25160" indent="-42516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Lig. suspensorium ovarii, lig. Infundibulopelvica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пружа се од рогова утеруса до бочних страна крсне кости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25160" indent="-42516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Lig. lata uteri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дупликатуре перитонеума које се пружају преко јајовода до грлића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25160" indent="-42516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Lig. cardinalia(Macendrot)-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бочне стране грлића са  бедреним кости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425160" indent="-42516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Lig. sacrouterina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задња страна грлића за сакрум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Content Placeholder 5" descr="sl"/>
          <p:cNvPicPr/>
          <p:nvPr/>
        </p:nvPicPr>
        <p:blipFill>
          <a:blip r:embed="rId1"/>
          <a:srcRect l="27073" t="50002" r="16878" b="20370"/>
          <a:stretch/>
        </p:blipFill>
        <p:spPr>
          <a:xfrm>
            <a:off x="1187280" y="1484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sl2"/>
          <p:cNvPicPr/>
          <p:nvPr/>
        </p:nvPicPr>
        <p:blipFill>
          <a:blip r:embed="rId2">
            <a:lum bright="18000"/>
          </a:blip>
          <a:srcRect l="22547" t="33753" r="9389" b="37558"/>
          <a:stretch/>
        </p:blipFill>
        <p:spPr>
          <a:xfrm>
            <a:off x="1116000" y="3933720"/>
            <a:ext cx="3168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оложај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33800" y="1557360"/>
            <a:ext cx="3749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У 80% случајева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је AVF- ante versio flexio-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нагнут је пут напред у односу  на осовину  вагине и осовину грлић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RVF retro versio flexio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20% случаје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Утерус је без обзира на положај причвршћен материчним везама које су од суштинског значаја за статику гентиалних органа же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9" descr="sl"/>
          <p:cNvPicPr/>
          <p:nvPr/>
        </p:nvPicPr>
        <p:blipFill>
          <a:blip r:embed="rId1"/>
          <a:srcRect l="21973" t="44456" r="47508" b="37500"/>
          <a:stretch/>
        </p:blipFill>
        <p:spPr>
          <a:xfrm>
            <a:off x="1187280" y="1341360"/>
            <a:ext cx="2521080" cy="2049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l"/>
          <p:cNvPicPr/>
          <p:nvPr/>
        </p:nvPicPr>
        <p:blipFill>
          <a:blip r:embed="rId2"/>
          <a:srcRect l="49023" t="45470" r="19430" b="37500"/>
          <a:stretch/>
        </p:blipFill>
        <p:spPr>
          <a:xfrm>
            <a:off x="1403280" y="3500280"/>
            <a:ext cx="25923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ромене положаја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Retroversioflexio-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конгeнитално, развојно скраћење задњег форникса вагине. Може бити стечено(вишероткиње, запаљења, ендометриоза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Hyperanteflexio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јчешће стечено(после побачаја, запаљења, тумори). Конгенитално је најчешће удружрно за хипоплазиј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Lateropositio uteri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мерање материце у страну. Најчешће настаје као последица тумора, запаљења(адхезије) или крварењ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Elevatio uteri, anteropositio, retroposit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Промене положаја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Descensus uteri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уштање материце испод интерспиналне линије. Постоје четири ступња пропадања материце, од 0(без померања) до 4( комплетан пролапс).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olapsus uteri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ад материце кроз интроитус вагине. Може бити субтотални и тотални(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ocidentio uter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. Пролапс гениталних органа је увек удружен, увек постоји и пролапс зидова вагине, али и околних органа(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cystocoella, rectocoella, enterocoella, cystourethrocoella, cystorectocoell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пад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Етилог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слабост мишића карличног дна и слабљење  материчних веза. Најчешће наступа код старијих особа(недостатак естрогена), продужених компликованих порођаја(вакум, форцепс), оперативних захвата(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aparatomio, SC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, повреда или дуготрајних физичких напор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Симптоматологија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ањи спадови су асимптоматски, док се код већих јавља осећај нелагодности праћен тупим боловима. Могу бити удружени са симптоматологијом других органа: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retentio, stres incontinentiо, opstipati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пад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мпликације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tres incontinentio, hydronephrosis, hydroureter, decubitus, prolapsus uteri incarcerata(ретко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Дијагностика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 основу симптоматологије и гинеколошког прегледа. Преглед се врши и у стојећем ставу и у литотомном положају, уз обавезни преглед спекулум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Лечење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асимптоматски десцензуси изнад нивоа химена не захтевају лечење. Лечење може бити конзервативно(песари) или најчешће оперативно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olpoplastica anterior et posterior, hysterectomia vaginalis, amputatio cervicis, venrofixatio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Спад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50" name="Content Placeholder 4" descr="gyn_002800_descensus_uteri.png"/>
          <p:cNvPicPr/>
          <p:nvPr/>
        </p:nvPicPr>
        <p:blipFill>
          <a:blip r:embed="rId1"/>
          <a:stretch/>
        </p:blipFill>
        <p:spPr>
          <a:xfrm>
            <a:off x="684360" y="1700280"/>
            <a:ext cx="3787560" cy="3673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D:\Users\Petar Arsenijevic\Desktop\Prolapsus.jpg"/>
          <p:cNvPicPr/>
          <p:nvPr/>
        </p:nvPicPr>
        <p:blipFill>
          <a:blip r:embed="rId2"/>
          <a:stretch/>
        </p:blipFill>
        <p:spPr>
          <a:xfrm>
            <a:off x="4716360" y="1700280"/>
            <a:ext cx="422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09:05Z</dcterms:modified>
  <cp:revision>298</cp:revision>
  <dc:subject/>
  <dc:title>ФАКУЛТЕТ МЕДИЦИНСКИХ НАУКА УНИВЕРЗИТЕТ У КРАГУЈЕВЦУ</dc:title>
</cp:coreProperties>
</file>